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5E25-9190-493A-B022-8BFAC091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FC0-4D11-4183-B4E4-A36424A7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1FB-0586-4750-8465-D1160B3F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841-F540-4ECC-A455-B85108B8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28E-BEE8-4B3F-B873-CDD4090C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190-F908-4F1D-802A-33CD17D1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61C-DE2B-4EC0-A351-260189C8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6AE-3517-4359-81E2-23689DEA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ED2-BC3C-4564-A39A-5A8C1DE7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378-060B-4280-951A-66B12C3E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366-B3A7-4293-B60C-02D0C5FA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E5D-819B-4306-9DF7-64B25D61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8063-A9AF-4EB1-82EC-FA655C22C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 est l’artiste? (1)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illisme, fauv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urat, Derain, Gauguin, Van Gogh, Matisse, Lautr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8920" cy="6400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86400" y="19807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8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449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81480" y="26665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u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449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050840"/>
            <a:ext cx="84582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8120" y="3805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050840"/>
            <a:ext cx="84582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102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gu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102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43084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4308480" cy="5668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57800" y="1295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39116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015920"/>
            <a:ext cx="762012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015920"/>
            <a:ext cx="762012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43600" y="24379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619760" cy="624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25160" y="45720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329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0080" y="9907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tr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329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841320"/>
            <a:ext cx="739116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3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62720" y="15235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3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u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964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10080" y="19807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964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3197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10080" y="9907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tr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3197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5021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2514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5021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34824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236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10080" y="9907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tr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236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829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tr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829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684360"/>
            <a:ext cx="731520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684360"/>
            <a:ext cx="7315200" cy="5981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7621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136520"/>
            <a:ext cx="73152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136520"/>
            <a:ext cx="73152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996840"/>
            <a:ext cx="3200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5006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86400" y="12949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gu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5006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gu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34824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4713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10080" y="19807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4713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1173240"/>
            <a:ext cx="7391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1173240"/>
            <a:ext cx="7391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895320"/>
            <a:ext cx="84582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u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895320"/>
            <a:ext cx="84582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8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1519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tr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8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553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553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86400" y="996840"/>
            <a:ext cx="3200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5167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5000" y="28195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u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5167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0:11:26Z</dcterms:created>
  <dc:creator>pdimick</dc:creator>
  <dc:description/>
  <dc:language>en-US</dc:language>
  <cp:lastModifiedBy>Administrator</cp:lastModifiedBy>
  <dcterms:modified xsi:type="dcterms:W3CDTF">2011-06-02T20:23:13Z</dcterms:modified>
  <cp:revision>12</cp:revision>
  <dc:subject/>
  <dc:title>Post-impressionisme</dc:title>
</cp:coreProperties>
</file>